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36C6-DC7C-4406-B94F-377899CD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5B27-E517-4971-819D-7A8E040A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21D8-1175-43AD-B418-81B87676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DC90-116A-4D94-8C80-294EAD33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02F-80C2-4B5D-AC7B-03378B72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3516-16F4-4C13-9BA3-7F8BCC42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6EB9-CA9C-4DD6-B64A-CDE4238C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07E-10D6-401F-B7EB-F3B82D88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AA02-26FC-465A-B56F-A876EC4D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1342-D1F5-47EC-9F68-4F841D8D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A0CF-97EE-4A10-B908-129D09E4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F85B-FE2F-468A-937C-928294F3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FB4D-7B7D-4DA3-8287-88B68EF55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vironmental efforts off the Toyo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4720" y="1844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2 emission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inforcement of environmental management by business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imination of substance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operation with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(1)CO2 emissions manageme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reate medium- to long-term scenarios and start management of CO2 emissions volumes on a global scal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(2)Reinforcement of environmental management by business partner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inforce environmental management by business partners on a global scale (consolidated subsidiaries, suppliers, dealers, and overseas distributors)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(3)Elimination of substances of conce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liminate substances of concern (lead, mercury, cadmium, and hexavalent chromium) on a global scal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(4)Cooperation with socie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tribute to the development of a recyclingbased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次「トヨタ環境取組プラン」は、トヨタの成長と社会との共生を両立させ、持続可能な社会構築に寄与することを目的にしています。この目的を達成するために、次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点をポイントにプランを策定しました。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CO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マネジメン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グローバル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把握し低減するための中長期シナリオ作りに着手し推進する。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）ビジネスパートナーの環境マネジメント強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連結会社、サプライヤー、販売店、海外代理店など、ビジネスパートナーの環境マネジメントをグローバルに強化・支援していく。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）環境負荷物質の削減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環境負荷物質（鉛、水銀、カドミウム、六価クロム）のグローバルな全廃を進める。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）社会との連携強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循環型社会の構築に寄与する。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すでにトヨタで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度より全世界の連結対象会社等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社と地球環境憲章を共有し、対象会社が各社ごとに取り組みプランを策定・推進する連結環境マネジメントを推進しています。各社は今回の第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次「トヨタ環境取組プラン」をもとに、各々次期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年環境取組プランを策定・推進し、連結環境マネジメントをさらに加速します。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3:29:31Z</dcterms:created>
  <dc:creator>Hiyoshi ITC</dc:creator>
  <dc:description/>
  <dc:language>en-US</dc:language>
  <cp:lastModifiedBy>Hiyoshi ITC</cp:lastModifiedBy>
  <dcterms:modified xsi:type="dcterms:W3CDTF">2008-12-15T03:36:50Z</dcterms:modified>
  <cp:revision>3</cp:revision>
  <dc:subject/>
  <dc:title>Environmental efforts off the Toyota</dc:title>
</cp:coreProperties>
</file>